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4F51-4DAD-4F3D-9D21-E52204FB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1BEA-2D99-4695-B514-10E9C575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1402-6C34-49BD-822E-8469146B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AB2C-EF90-4C71-A4BB-5F0935D4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126E-6023-45EF-8855-FA28F243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9ADB-E560-403C-B2E0-9E10BCAC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31E-1F03-4B1A-982B-1E8424F8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D6AE-EF1E-4293-98A5-71B1C8B6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3424-FB68-4016-99B6-FF646F65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BC20-7400-4A3C-97CB-C7468259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52BB-1340-4BA7-884C-33E677A2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33C-2502-4DC9-8B22-D560664D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8D3B-B56C-49C5-97C8-BA16D5F43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ta.physics.uoguelph.ca/tutorials/fbd/quizzes.html" TargetMode="External"/><Relationship Id="rId2" Type="http://schemas.openxmlformats.org/officeDocument/2006/relationships/hyperlink" Target="http://eta.physics.uoguelph.ca/tutorials/fbd/quizzes.html" TargetMode="External"/><Relationship Id="rId3" Type="http://schemas.openxmlformats.org/officeDocument/2006/relationships/hyperlink" Target="http://eta.physics.uoguelph.ca/tutorials/fbd/quizzes.html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Free Body Diagrams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d. Applied Fo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514600"/>
            <a:ext cx="83818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int in the direction of push or p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e. Ten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s if pulling force acts on ends, such as a rope or wire used to pull a boulder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ta.physics.uoguelph.ca/tutorials/fbd/quizzes.htm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ces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04920" y="762120"/>
          <a:ext cx="8839080" cy="5856120"/>
        </p:xfrm>
        <a:graphic>
          <a:graphicData uri="http://schemas.openxmlformats.org/drawingml/2006/table">
            <a:tbl>
              <a:tblPr/>
              <a:tblGrid>
                <a:gridCol w="1371600"/>
                <a:gridCol w="1143000"/>
                <a:gridCol w="3124080"/>
                <a:gridCol w="3200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mb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orce that acts to oppose sliding motion b/w surfa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/ to the surface and opposite the direction of sli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ontact force exerted by a surface on an ob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pendicular to and away from the su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p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restoring force, that is, the push or pull a spring exerts on an ob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site the displacement of the object at the end of the sp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en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ull exerted by a string, rope or cable when attached to a body and pulled ta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y from the object and // to the string, rope, or cable at the point of attach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ru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hru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general term for the forces that move objects such as rockets, planes, cars and people (Force Appli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same direction as the acceleration of the object barring any resistive for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 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ong-range force due to gravitational attraction b/w two objects, generally Earth and an ob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ight down toward the center of the Ea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52280"/>
            <a:ext cx="83055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1 – Draw a free-body diagram fo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box resting flat on a flat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895480" y="3352680"/>
          <a:ext cx="343872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352680"/>
                    <a:ext cx="343872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57200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487692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57200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3505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52280"/>
            <a:ext cx="83055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2 – Draw a free-body diagram fo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 ice puck on a slanted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133720" y="2819520"/>
          <a:ext cx="47052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819520"/>
                    <a:ext cx="47052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10080" y="4419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533412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5029200" y="3580920"/>
            <a:ext cx="380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3276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52280"/>
            <a:ext cx="83055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3 – Draw a free-body diagram fo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piano being pulled upstairs by a 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133720" y="2819520"/>
          <a:ext cx="47052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819520"/>
                    <a:ext cx="47052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5410080" y="4419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533412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5029200" y="3580920"/>
            <a:ext cx="380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3276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410080" y="3962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35812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419360" y="441972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457200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124080" y="2971800"/>
          <a:ext cx="2438640" cy="30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971800"/>
                    <a:ext cx="243864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52280"/>
            <a:ext cx="83055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4 – Draw a free-body diagram fo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pendulum 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2004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518148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4572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343400" y="30477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849400" y="2286000"/>
          <a:ext cx="35514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9400" y="2286000"/>
                    <a:ext cx="35514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52280"/>
            <a:ext cx="83055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5 – Draw a free-body diagram fo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ake the elevator to the fourth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3352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495288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572000" y="3505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905120" y="2133720"/>
          <a:ext cx="507204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133720"/>
                    <a:ext cx="507204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52280"/>
            <a:ext cx="83055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6 – Draw a free-body diagram fo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endulum swings in a horizontal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29718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457200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4038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666880" y="2895480"/>
            <a:ext cx="10670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057400" y="2819520"/>
          <a:ext cx="5029200" cy="33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819520"/>
                    <a:ext cx="5029200" cy="33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52280"/>
            <a:ext cx="83055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7 – Draw a free-body diagram for…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ou push 2 box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own the hal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r box 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2004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53341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152388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00200" y="1295280"/>
          <a:ext cx="2438280" cy="12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1295280"/>
                    <a:ext cx="243828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4343400" y="4343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3434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4267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62720" y="42670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971440" y="4267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388620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971800" y="4419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449568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ue to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“body” = the obj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ree” = it is shown without other objects around 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bbreviated  “fbd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057400" y="2819520"/>
          <a:ext cx="5029200" cy="33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819520"/>
                    <a:ext cx="5029200" cy="33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52280"/>
            <a:ext cx="83055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8 – Draw a free-body diagram for…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ou push 2 box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own the hal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r box B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3124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52578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152388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600200" y="1295280"/>
          <a:ext cx="2438280" cy="12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1295280"/>
                    <a:ext cx="243828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343400" y="4343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3434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4267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62720" y="426708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ue to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971440" y="4267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71800" y="388620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133720" y="3809880"/>
          <a:ext cx="46479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809880"/>
                    <a:ext cx="46479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52280"/>
            <a:ext cx="83059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9 – Draw a free-body diagram for…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truck accele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 quickly that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front doesn’t fal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F on the box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5029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57150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52388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11480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219320"/>
          <a:ext cx="3562200" cy="23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219320"/>
                    <a:ext cx="356220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4191120" y="4952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91120" y="4952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1911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3962520" y="2743200"/>
          <a:ext cx="4647960" cy="35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743200"/>
                    <a:ext cx="4647960" cy="35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52280"/>
            <a:ext cx="83059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10 – Draw a free-body diagram for…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ox B accelerate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right while A 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n top.  The F on 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32004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541008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152388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4038480"/>
            <a:ext cx="38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62120" y="1295280"/>
          <a:ext cx="2971800" cy="200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295280"/>
                    <a:ext cx="29718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172200" y="44197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172200" y="32000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72200" y="4419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4191120" y="2895480"/>
          <a:ext cx="4419360" cy="332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895480"/>
                    <a:ext cx="4419360" cy="33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52280"/>
            <a:ext cx="83059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11 – Draw a free-body diagram for…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Physics Text and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vel are joined by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ope slung over a kn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3886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533412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152388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3429000"/>
            <a:ext cx="38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990720" y="1219320"/>
          <a:ext cx="2895480" cy="22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219320"/>
                    <a:ext cx="289548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5333760" y="380988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324480" y="38098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324480" y="3962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40384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38098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force on the Tex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038480" y="2819520"/>
          <a:ext cx="441972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819520"/>
                    <a:ext cx="4419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52280"/>
            <a:ext cx="83059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12 – Draw a free-body diagram for…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Physics Text and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vel are joined by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ope slung over a kn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3657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53341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152388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86600" y="449568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90720" y="1219320"/>
          <a:ext cx="2895480" cy="22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219320"/>
                    <a:ext cx="289548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105520" y="3657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38098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force on the nove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7220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5181480" y="350496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172200" y="350496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1911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Drawing FBD’s </a:t>
            </a:r>
            <a:br>
              <a:rPr sz="40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 boat on water being pulled by a rop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Simplify the object (dot or bo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dd in all the force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ich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0" y="4114800"/>
          <a:ext cx="350532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4114800"/>
                    <a:ext cx="35053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4572000" y="1523880"/>
          <a:ext cx="353376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523880"/>
                    <a:ext cx="35337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ome Possible For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rmal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ictional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ust (Applied For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. Gra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nts downward  towards the center o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mmonly called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ight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equal to: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o 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b. Normal For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ints  _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|_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o surface -   use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ts the object from “falling into” whatever it is sitting on and is always  _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|_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the surface upon which it re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. Frictional Fo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n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rallel to mo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ut in the opposite  direction  -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: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imes, to be more specific, you might use      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or   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See next slid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oefficient of Friction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value representing the relative “stickiness” of a surface; the higher the value, the greater the friction. Values are found in a table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urfaces must always be compared – such as wood on ice, not just ice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 the symbol: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re are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wo types of Frict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Kinetic Fri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the friction which causes    moving objects to eventually stop   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; this is also known as “Sliding Fric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Static Fri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the friction which must b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overcome to get a body to move 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ypical Coefficients of Fri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5157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rfa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32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32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ubber on concre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ubber on wet concre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od on woo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eel on Steel (dry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4:52:46Z</dcterms:created>
  <dc:creator>marti andreski</dc:creator>
  <dc:description/>
  <dc:language>en-US</dc:language>
  <cp:lastModifiedBy>jluckey</cp:lastModifiedBy>
  <dcterms:modified xsi:type="dcterms:W3CDTF">2009-12-03T17:10:08Z</dcterms:modified>
  <cp:revision>92</cp:revision>
  <dc:subject/>
  <dc:title>Why Study Physics?</dc:title>
</cp:coreProperties>
</file>